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6ED-B9AE-4FD4-AAAF-DCE3407C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6A7-0E5F-4E0C-BD0D-5A228A6F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6279-E4D9-4AE6-9499-009B6067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E37-D05E-4B38-AA3D-8DF2ACDD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672-E48F-41E7-84A3-87EAA4B8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2D0-3079-4944-9C90-239603C0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F43-B4D9-4BC0-BE6E-64418E5B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04D1-8AC7-4998-AB72-7B17AC33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48D-A74E-4A02-8B02-2D6D3EF6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9C4-68F0-4A02-ABDF-E39FEF0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FA8-E8DF-41D6-86FC-B6511E1F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EC8-0EEF-43D9-BAA2-3DEA967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EA1-7F48-4FF4-BD1E-F2AE0A1F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F432-2381-4EE8-9B2B-A6D0DF19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A8D-308A-4637-8DA7-167544FB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0C89-AF9B-41C6-B495-70555011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9C3-8DCD-4F4B-8AB1-28C83F3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664E-4915-4286-96B9-D4C4A8A0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9FF-0289-455A-8306-08E9FF6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7AF-88B1-4DBC-B008-EB1C0E9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4EB-DCF9-4C39-921D-68EECA0F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7D9D-155D-4D79-80A0-1ECBCF4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2C87-E56A-4DF0-AD49-540B683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7803-1EA7-444F-A09E-644E180C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4D2F-87F7-49D6-835A-B71B3C89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E47-DEB1-4460-8351-D3DA0B3F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CC3-6B1A-4FA7-9DBE-6FF9359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956-58B2-48DC-AF01-E6E2FC9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457-8FA7-494C-91A9-74922A5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4D6-7CD2-42B5-9315-57FCF95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42D-18A2-41FF-A0F2-5DC9B440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230-0D56-49FF-B3B1-0705914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4D7B-944D-4124-BB02-75D645E4D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426-E0B6-4352-AA8D-3F3588200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41092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. dr Vladimir Zivkov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529360" y="12621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TS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39640" y="26370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teaching unit (eighth week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SICS OF SPORT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principle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349360"/>
            <a:ext cx="82296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eral guidelin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3 main meals and 2 snacks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rrect percentage ratio of macronutrients in the daily energy intake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all food groups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quate energy intake (in order to achieve energy balance)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  sufficient fluid intake and proper 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role of proper nutrition in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2420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cesses in the athlete's recover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oration of glycogen depots in muscles and liver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replacement of fluids and electrolytes (lost through sweating)      3. synthesis of new proteins (after catabolism caused by exercise)        4. restoration of the immune system (in order to preserve general healt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8360" y="270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cronutrients in sport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carbohydrates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They represent the basis of athletes' nutrition (they directly participate in depositing glycogen, which is used as a source of energy during competition and training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clud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onosaccharides (glucose, galactose, fructose, sorbitol, mannitol)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oligosaccharides (sucrose, lactose, maltose)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polysaccharides (starch, amylose, amylopect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lycogen - glucose depot in muscles and li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ncreased intake of CH enables an increase in muscle glycogen sto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uscle glycogen deposition is greatest during the 1st hour after exerc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is why the early intake of CH after exercise is extremely important (enables efficient recovery of muscle cells)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lycemic index (G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915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mber that shows how CHs affect blood glucose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ucose has a glycemic index of 100 (other foods have a lower inde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w glycemic index ensures a slow release of glucose into the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ods with a high glycemic index raise glycemia fa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training, you should take low GI food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 the 1st hour after physical activity, medium and high GI foods should be used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inue their intake during the next hour (replenishment of glycogen sto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CH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H (monosaccharides) - sweets, carbonated drinks, chocolate, refined sugar products, white flour produc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H quickly raise the level of glucose in the blood - high glycemic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used for quick recovery of spent energy (after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of the sudden jump (and consequently the drop in blood glucose), simple CH should be avoided before training or compet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consumption immediately before activity can cause hypoglycemia (loss of necessary energ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x CH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found in whole grains, legumes, stone fruits and 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break down gradually - their sugar content is slowly released into the bloodstream (slow insulin secre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CH quickly gradually raise the level of glucose in the blood - low glycemic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recommended to use them at least an hour before the competition (to ensure enough energy for physical activ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ins - macromolecules consisting of a combination of 21 amino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proteins in the body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tructural, enzymatic, immunological (protective)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ormonal and neurotransmitter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ransport, energy, buffer (maintenance of normal pH)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smotic (maintenance of optimal fluid balance)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echa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 essential AAs: phenylalanine, valine, threonine, tryptophan, methionine, leucine, isoleucine, lysine and histi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n-essential AAs: alanine, aspartate, cysteine, glutamate, glutamine, glycine, proline, serine, asparagine, pyrrolys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mino acids are conditionally essential (according to different divis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(complete) proteins (meat, milk, eggs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ally incomplete (lentils, beans and other leguminous vegetables, stone fru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plete proteins (gra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complete proteins: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ain all essential acids in their composition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ave the correct ratio of amino acids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elp maintain the nitrogen balance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re necessary for tissue growth and development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ost often come from animal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1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of incomplete proteins: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y lack one or more AAs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long-term intake leads to malnutrition and they mainly come from foods of plant orig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ants for protein intake through food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mount of protei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ype of protei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ime of protein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ake of carbohydrates together with prote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athletes consume a large amount of protein (&gt;2 to 3 g/kg/da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rotein intake in order to achieve stronger muscle mass is not based in the relevant scientific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cess of ingested proteins is used for energy metabolism (after deamination) or is recycled into fat and depos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rotein intake disrupts kidney and liver function (due to the elimination of urea and other products of nitrogen metabolis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ealthy Lifestyle Sports Nutrition Athlete Food Stock Vector (Royalty Free)  437993680"/>
          <p:cNvPicPr/>
          <p:nvPr/>
        </p:nvPicPr>
        <p:blipFill>
          <a:blip r:embed="rId1"/>
          <a:srcRect l="0" t="13635" r="0" b="27283"/>
          <a:stretch/>
        </p:blipFill>
        <p:spPr>
          <a:xfrm>
            <a:off x="395280" y="1773360"/>
            <a:ext cx="835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commended daily protein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Protein intake recommendationS - Fitbit Community"/>
          <p:cNvPicPr/>
          <p:nvPr/>
        </p:nvPicPr>
        <p:blipFill>
          <a:blip r:embed="rId1"/>
          <a:stretch/>
        </p:blipFill>
        <p:spPr>
          <a:xfrm>
            <a:off x="539640" y="1628640"/>
            <a:ext cx="768672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otein content in some foods per 100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413000"/>
            <a:ext cx="38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est source of amino acids is whey protein (it stimulates the anabolic response of skeletal muscles the mos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est time for protein intake is immediately after exerci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combined ingestion of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carbohydrates promotes protein balance during high-intensity training and inhibits the intensity of protein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est protein sources : r/coolguides"/>
          <p:cNvPicPr/>
          <p:nvPr/>
        </p:nvPicPr>
        <p:blipFill>
          <a:blip r:embed="rId1"/>
          <a:stretch/>
        </p:blipFill>
        <p:spPr>
          <a:xfrm>
            <a:off x="3708360" y="907920"/>
            <a:ext cx="5435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at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84464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fat in the diet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y and reserve material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urce of essential fatty acids necessary for the synthesis of eicosanoids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urce of liposoluble vitamins (A, D, E and K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of provitamin (carotene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al role (part of cell membranes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messenger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fect the physical and organoleptic properties of f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important lipids in the diet: triglycerides, fatty acids, phospholipids and ch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at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7733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9200" indent="-25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commend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ergy intake originating from fat &lt; 30% of the total daily energy intake       - saturate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lt; 10% of total fat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unsaturated fatty acids - 70% to 80% of total fat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olyunsaturated/ monounsaturate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50%: 50%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&lt; 300 mg of cholesterol per day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ways choos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saturated fats (minimize the use of saturated and trans fats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oods rich in quality fats - fish, lean meat, olive oil, linseed oil, peanut butter, seeds and stone fruits (almonds, hazelnuts, walnu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iber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5573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ber - a type of complex carbohydrates of plant origin that cannot be dige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of fiber: lowering blood pressure, cholesterol levels, blood glucose, reducing the risk of malignant diseases, reducing body we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: at least 25 g/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divided into those that are soluble in water and those that are insolu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s of soluble fiber: fruits (apples, oranges, pears, strawberries, walnuts), vegetables (cucumber, celery, carrots), cereals, bran, oats and legumes (beans, peas, lenti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ble fibers bind water (they form a kind of gel) - they slow down the digestion of food and bowel m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way, they influence that the feeling of satiety lasts longer, which can be very suitable for reducing body mas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68360" y="2565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als of sports nutrition before, during and afte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al that the athlete consumes 1-4 hours before training allows the replenishment of glycogen reserves in the muscles and especially in the liver, which were used up during slee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e-workout meal should be rich in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(1-4 g/kg/body weigh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ting a small meal with a low glycemic index (30-60 min before training):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sures a gradual release of glucose during training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reduces the risk of a drop in blood glucose levels at the beginning of training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creases fat metabolism (provides additional energy - important for endurance s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 and GI content in f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rcRect l="22962" t="25221" r="32762" b="18671"/>
          <a:stretch/>
        </p:blipFill>
        <p:spPr>
          <a:xfrm>
            <a:off x="1116000" y="1557360"/>
            <a:ext cx="6669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training, glycogen reserves are consumed (reduces sports performance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intake during training provides additional energy for muscle and CNS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uncti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The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effect is realized through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aving glycogen reserve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ake of available substrates for muscle work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revention of hypoglycemia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ctivation of centers in the C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mount of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that should be ingested during training depends on:        - types, intensity and duration of training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vironmental condition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level of preparedness of the ath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000" y="2060280"/>
            <a:ext cx="83516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exercises that last from 30 to 60 minutes, it is not necessary to enter UH (existing glycogen reserves provide enough energ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training that lasts from 45 to 75 minutes, it is necessary to enter small amounts of carbohyd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insing the mouth with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 solution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 Frequent contact of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 and receptors in the oral cavity stimulates receptors in the CNS (increases the feeling of comfort and improves conscious work during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prolonged exercise (longer than 1 hour) it is necessary to enter an additional amount of carbohydrates (depends on the duration and intensity of the exerc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riathlon | Allans triatlonverden | Side 2"/>
          <p:cNvPicPr/>
          <p:nvPr/>
        </p:nvPicPr>
        <p:blipFill>
          <a:blip r:embed="rId1"/>
          <a:stretch/>
        </p:blipFill>
        <p:spPr>
          <a:xfrm>
            <a:off x="2124000" y="1125360"/>
            <a:ext cx="4824360" cy="422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prove Your Productivity &amp;amp; Focus Through Diet, Rest, &amp;amp; Exercise - Reset  {Basics}"/>
          <p:cNvPicPr/>
          <p:nvPr/>
        </p:nvPicPr>
        <p:blipFill>
          <a:blip r:embed="rId2"/>
          <a:stretch/>
        </p:blipFill>
        <p:spPr>
          <a:xfrm>
            <a:off x="1619280" y="1125360"/>
            <a:ext cx="591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 workout nutrition goal: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replenishment of glycogen reserves in the liver and muscles,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fluid and electrolyte replacement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tissue regeneration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adaptation processes after catabolic stress and damage that occur as a result of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Recommendatio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consumption of 1–1.2 g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/kg/hour during 4 to 6 hours after training (intake should start within 30 minutes after training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should be medium to high GI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Intake of about 25 g of whole proteins immediately after training (stimulation of muscle protein synthesis)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roteins of high biological value - meat, milk and egg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Whey proteins are quickly digested and quickly absorbed (stimulates protein synthesis and oxidation most effective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63640" y="2565360"/>
            <a:ext cx="58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utrition in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Sports Nutrition - Feed To Succeed"/>
          <p:cNvPicPr/>
          <p:nvPr/>
        </p:nvPicPr>
        <p:blipFill>
          <a:blip r:embed="rId1"/>
          <a:stretch/>
        </p:blipFill>
        <p:spPr>
          <a:xfrm>
            <a:off x="1979640" y="1557360"/>
            <a:ext cx="5157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tritional status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nutritional needs depend on the physiological requirements of training, the lifestyle of the athlete and the characteristics of the 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meters for determining nutritional status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nthropometric measurement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ernal examinatio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biochemical blood analysi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etary intake of micro- and macro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ng dietary intake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ood intake in the previous 24 hours,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illing in a questionnaire on the frequency of food intake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keeping a food diary (within 3-7 d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tritional habits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food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als between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before train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stakes in the nutrition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77336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ufficient nutritional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ial limitation in the choice of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time that makes it difficult to choose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equent tr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varied and monotonous di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pping me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ng gaps between me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intake of water and sports dr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ufficient number of portions of fruits, vegetables, milk and dair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intake of fast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principle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guidelines: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carbohydrates (55–60%),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fats (up to 30%)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proteins (10-1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How To Calculate Your Ideal Macronutrients Intake | by ShapeScale |  shapescale | Medium"/>
          <p:cNvPicPr/>
          <p:nvPr/>
        </p:nvPicPr>
        <p:blipFill>
          <a:blip r:embed="rId1"/>
          <a:srcRect l="5905" t="20028" r="4762" b="4875"/>
          <a:stretch/>
        </p:blipFill>
        <p:spPr>
          <a:xfrm>
            <a:off x="1042920" y="3860640"/>
            <a:ext cx="6842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x</cp:lastModifiedBy>
  <dcterms:modified xsi:type="dcterms:W3CDTF">2024-02-26T20:10:48Z</dcterms:modified>
  <cp:revision>443</cp:revision>
  <dc:subject/>
  <dc:title>Slide 1</dc:title>
</cp:coreProperties>
</file>